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C93-8B2D-403D-8977-304B6F7E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1D1E-00A8-49B8-887E-AE31A250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E63-EB71-431C-ADB3-231F0ACF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E62-6BB4-422F-BA3C-6BE6DF4C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985-BBFC-4384-8BF9-7BBB5200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56F-B2B3-4D18-9AFB-B68A96BE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5B5-CC71-4741-974B-015E35ED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FC8-3604-4D66-9A2C-913F3B6C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C02-2646-4256-8E54-5C91F24D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DB0-7D62-42BF-8A88-EE28B422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1EA-EF6A-4AAF-B280-F9A350A7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B02-A2A9-45E4-B757-5C23BD02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824D-2E19-4361-A06D-D2787F32749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34800" y="1670040"/>
            <a:ext cx="837108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884160" y="5516640"/>
            <a:ext cx="7216920" cy="615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871560" y="4797360"/>
            <a:ext cx="7418520" cy="6159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878040" y="430992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1176480" y="3541680"/>
            <a:ext cx="6924600" cy="6159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914400" y="2925720"/>
            <a:ext cx="8229600" cy="61596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969840" y="2219400"/>
            <a:ext cx="82296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2" descr=""/>
          <p:cNvPicPr/>
          <p:nvPr/>
        </p:nvPicPr>
        <p:blipFill>
          <a:blip r:embed="rId1"/>
          <a:stretch/>
        </p:blipFill>
        <p:spPr>
          <a:xfrm>
            <a:off x="341280" y="120636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2"/>
          <a:stretch/>
        </p:blipFill>
        <p:spPr>
          <a:xfrm>
            <a:off x="469800" y="1773360"/>
            <a:ext cx="82296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59:44Z</dcterms:created>
  <dc:creator/>
  <dc:description/>
  <dc:language>en-US</dc:language>
  <cp:lastModifiedBy/>
  <dcterms:modified xsi:type="dcterms:W3CDTF">2011-12-08T11:59:48Z</dcterms:modified>
  <cp:revision>1</cp:revision>
  <dc:subject/>
  <dc:title/>
</cp:coreProperties>
</file>